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38493"/>
        <c:axId val="99254185"/>
      </c:barChart>
      <c:catAx>
        <c:axId val="70238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4185"/>
        <c:crosses val="autoZero"/>
        <c:auto val="1"/>
        <c:lblAlgn val="ctr"/>
        <c:lblOffset val="100"/>
        <c:noMultiLvlLbl val="0"/>
      </c:catAx>
      <c:valAx>
        <c:axId val="99254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38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D30-3ACD-4330-B572-15E94957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DCD-877D-44C7-8C05-A2D27842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ED9-21C5-455C-854A-A5AB19F2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078-C929-4AAC-9E3B-724016C6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A10-B072-4B39-8BA7-F2E85C2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6E2-0702-4CFE-9C84-7F3EAD6F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0D0-CFF8-4ED9-A151-6FCC8C9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81D-0B63-4108-B635-6860A0D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098-24CD-488B-9F64-8E6E8ED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B68-5DE9-449F-B7A3-ED0407B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145-721A-4B90-BA72-72E1808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B8A-CFBB-419E-B991-F0C6336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0B69E-310B-40EB-816E-3A98FC07D1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