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35505"/>
        <c:axId val="55724950"/>
      </c:barChart>
      <c:catAx>
        <c:axId val="432355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24950"/>
        <c:crosses val="autoZero"/>
        <c:auto val="1"/>
        <c:lblAlgn val="ctr"/>
        <c:lblOffset val="100"/>
        <c:noMultiLvlLbl val="0"/>
      </c:catAx>
      <c:valAx>
        <c:axId val="55724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355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A402-0035-46EF-9550-B909AF9E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BA10-3E5D-4E48-B675-24765F6E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D22-7A55-48E6-941A-985453A8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E10-8EBA-4653-98E4-BAC2E0CA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3DB-F134-4967-AA40-8311AC37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F29-06AD-40E7-AEDD-D0465E1A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6DE7-26E0-4A2E-8F37-F0ACD5DE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2959-D7C7-47B6-A6F7-2DB6C8EE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EB8-DB79-465C-813D-23A131E5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57D-8386-4457-8949-D03F7490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E0C-8338-47DF-A650-7D9ECC1B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B10-CC3A-4840-B879-5CD6CD6A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1A216-9DB0-4D80-BB76-9B4E2803A7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